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6F60-79D4-4A4A-8E8D-E220B8E83D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lgebra</a:t>
            </a: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Gr. 6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difference between an expression and an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has an equal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xplain the difference between an expression and an equatio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quation has an equal sign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9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(9 + 3)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9s - 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area of the wall that Keesha will paint?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 l x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 18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  64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10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is the area of the wall that Keesha will paint?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 =  l x 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should replace 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number should replace 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+ 2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979F-08BA-4B63-A2E3-EE255535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84C-6F0F-4FDB-B283-1E7F572C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FE2-E92D-4ECE-B0D1-B7FCB5E2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E87-85BB-4288-9F87-8A686523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1DF3-3AB7-41CB-9B98-E0196BFC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2256-72DC-450F-9FD7-4389FE62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0193-CE66-449C-A6CB-BC377228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29A3-63E5-4AF8-B626-3604CC3A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A79D-FED0-4796-AAF8-AF059322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CECE-908A-4ADC-87C2-BCEACBA1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90FF-FE28-4D26-9DD8-02AC9BF3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101-1D71-4005-8CD3-9241A86C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719A-98E7-4CAF-91C1-C479C549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3716-E0CF-464B-908A-786EAEAA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897B-115E-4B74-83DF-57D4F632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F5C6-C337-4CDE-AB6C-834E257E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9F5E-8BD7-415F-8FBD-E0D6218D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F9A-28C3-45B0-B374-7B46B2B4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24F-FAD0-4260-93AF-1E446421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E3F-0B6D-48A8-A5C9-3CDB3065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01D-3579-4CAA-87CB-5B6AAAFE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32D-47EE-456B-B750-75DFDC9E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C14-9F4F-4DAE-B6F3-49E2E903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B2B-0FA4-432D-BCDC-F2767BAC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907F-40EF-4DF3-997B-4C8E08BFB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8131-FB6C-49F8-97A0-CE77D400B0C2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Algebra</a:t>
            </a:r>
            <a:br>
              <a:rPr sz="52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r. 6</a:t>
            </a:r>
            <a:br>
              <a:rPr sz="52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2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Explain the difference between an expression and an equation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Equation has an equal sign.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Which expression represents the number of stamps Sarah has left?</a:t>
            </a:r>
            <a:br>
              <a:rPr sz="40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s,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n each envelope. She sells 3 of the envelop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hat is the area of the wall that Keesha will paint?    </a:t>
            </a:r>
            <a:r>
              <a:rPr b="1" i="1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 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l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x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What number should replace n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rite an expression for the number of hummingbirds Lewis saw on Saturda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h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. On Saturday, he saw 3 more than twice the number of hummingbirds he saw on Friday. Write your answ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35:40Z</dcterms:modified>
  <cp:revision>9</cp:revision>
  <dc:subject/>
  <dc:title>Percent</dc:title>
</cp:coreProperties>
</file>